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wmf" ContentType="image/x-wmf"/>
  <Override PartName="/ppt/media/image19.jpeg" ContentType="image/jpeg"/>
  <Override PartName="/ppt/media/image12.jpeg" ContentType="image/jpeg"/>
  <Override PartName="/ppt/media/image7.jpeg" ContentType="image/jpeg"/>
  <Override PartName="/ppt/media/image5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A8A3-2FC5-46DE-A56A-59C42123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35D8-8B43-44BA-B1F6-F90B942A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0C3E-73A3-4796-AA9E-197AF77C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46FE-764D-466F-B76C-6752F77F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7D5-26FB-4E04-A046-0990CA59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24E6-D0AF-4514-B99B-99A82BB3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0DC9-11D3-4C66-85B0-228AA6D1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F0A-6ADD-480B-A0D1-6C3B2CAD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6BA-C741-42C2-B8EB-411F6FBF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7C6-06C6-4B15-9A88-ABEF0EB7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2EF-2A81-42AF-9D3B-AFCBCA4F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E786-7CC9-499C-A942-495A3A0B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E4DF-4A3F-46CA-B0BC-FEA910A8C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buch.com/controll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buch.com/murals.htm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rownpride.com/bpevents/event.asp?b=22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brownpride.com/murals/murals.asp?a=estrada/index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28600" y="1905120"/>
            <a:ext cx="83818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Murals of Mexico</a:t>
            </a:r>
            <a:endParaRPr b="0" lang="en-US" sz="3600" spc="1" strike="noStrike">
              <a:ln w="12600">
                <a:solidFill>
                  <a:srgbClr val="99cc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2" name="Picture 5" descr="E:\PFiles\MSOffice\Clipart\standard\stddir3\NA01674_.wmf"/>
          <p:cNvPicPr/>
          <p:nvPr/>
        </p:nvPicPr>
        <p:blipFill>
          <a:blip r:embed="rId1"/>
          <a:stretch/>
        </p:blipFill>
        <p:spPr>
          <a:xfrm>
            <a:off x="6934320" y="4800600"/>
            <a:ext cx="1660320" cy="160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E:\PFiles\MSOffice\Clipart\standard\stddir2\BL00834_.wmf"/>
          <p:cNvPicPr/>
          <p:nvPr/>
        </p:nvPicPr>
        <p:blipFill>
          <a:blip r:embed="rId2"/>
          <a:stretch/>
        </p:blipFill>
        <p:spPr>
          <a:xfrm>
            <a:off x="457200" y="304920"/>
            <a:ext cx="167940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http://iml.umkc.edu/art/faculty/wahlman/quizzes/Mayan/4BonampakMural/MayaBonampakMusicianB.jpg"/>
          <p:cNvPicPr/>
          <p:nvPr/>
        </p:nvPicPr>
        <p:blipFill>
          <a:blip r:embed="rId1"/>
          <a:stretch/>
        </p:blipFill>
        <p:spPr>
          <a:xfrm>
            <a:off x="1428840" y="1297080"/>
            <a:ext cx="628632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457200" y="533520"/>
            <a:ext cx="838188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enturies later, after the Mexican Revolution, during the 1920s and 1930s another “muralist movement” bega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New artists used murals to educate the illiterate population of their history and cultur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ese murals can now be found throughout Mexico, on the walls of government buildings, and on structures in large citi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DiegowMural1924b.JPG (24659 bytes)"/>
          <p:cNvPicPr/>
          <p:nvPr/>
        </p:nvPicPr>
        <p:blipFill>
          <a:blip r:embed="rId1"/>
          <a:stretch/>
        </p:blipFill>
        <p:spPr>
          <a:xfrm>
            <a:off x="380880" y="304920"/>
            <a:ext cx="4977000" cy="6308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4"/>
          <p:cNvSpPr/>
          <p:nvPr/>
        </p:nvSpPr>
        <p:spPr>
          <a:xfrm>
            <a:off x="5410080" y="1371600"/>
            <a:ext cx="3505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Muralist Diego Rivera in front of one of his murals on a  government building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bigController3_c.JPG (52726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63560" y="228600"/>
            <a:ext cx="5818320" cy="63244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3733920" y="58672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Diego Rivera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The_Arsenal_1928d.JPG (666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6200" y="263520"/>
            <a:ext cx="7851600" cy="6332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57913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Diego Rivera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Tenochtitlan_1945d.JPG (92501 bytes)"/>
          <p:cNvPicPr/>
          <p:nvPr/>
        </p:nvPicPr>
        <p:blipFill>
          <a:blip r:embed="rId1"/>
          <a:stretch/>
        </p:blipFill>
        <p:spPr>
          <a:xfrm>
            <a:off x="-1077840" y="0"/>
            <a:ext cx="102218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533520" y="5486400"/>
            <a:ext cx="815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    “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Tenochtitlan Marketplace”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        </a:t>
            </a: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Muralist:  Diego Rivera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http://www.arslatino.com/images/reportaje/jose_clemente_orozco.jpg"/>
          <p:cNvPicPr/>
          <p:nvPr/>
        </p:nvPicPr>
        <p:blipFill>
          <a:blip r:embed="rId1"/>
          <a:stretch/>
        </p:blipFill>
        <p:spPr>
          <a:xfrm>
            <a:off x="4724280" y="380880"/>
            <a:ext cx="3967200" cy="60199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228600" y="990720"/>
            <a:ext cx="42670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Conquest”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Muralist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Jose Clemente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Orozc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http://www.hostelguadalajara.com/recursos/fotos/100-2420.JPG"/>
          <p:cNvPicPr/>
          <p:nvPr/>
        </p:nvPicPr>
        <p:blipFill>
          <a:blip r:embed="rId1"/>
          <a:stretch/>
        </p:blipFill>
        <p:spPr>
          <a:xfrm>
            <a:off x="3886200" y="304920"/>
            <a:ext cx="4908600" cy="63244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228600" y="1219320"/>
            <a:ext cx="35812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Hidalgo”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Muralist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Jose Clemente Orozc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La riforma e la caduta dell'impero"/>
          <p:cNvPicPr/>
          <p:nvPr/>
        </p:nvPicPr>
        <p:blipFill>
          <a:blip r:embed="rId1"/>
          <a:stretch/>
        </p:blipFill>
        <p:spPr>
          <a:xfrm>
            <a:off x="685800" y="228600"/>
            <a:ext cx="7924680" cy="4875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609480" y="510552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 “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Juarez and the Fall of the Empire”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Muralist:  Jose Clemente Orozc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5"/>
          <p:cNvGrpSpPr/>
          <p:nvPr/>
        </p:nvGrpSpPr>
        <p:grpSpPr>
          <a:xfrm>
            <a:off x="1446120" y="1630440"/>
            <a:ext cx="6251400" cy="3597120"/>
            <a:chOff x="1446120" y="1630440"/>
            <a:chExt cx="6251400" cy="3597120"/>
          </a:xfrm>
        </p:grpSpPr>
        <p:sp>
          <p:nvSpPr>
            <p:cNvPr id="75" name="Rectangle 4"/>
            <p:cNvSpPr/>
            <p:nvPr/>
          </p:nvSpPr>
          <p:spPr>
            <a:xfrm>
              <a:off x="1446120" y="1630440"/>
              <a:ext cx="6251400" cy="3597120"/>
            </a:xfrm>
            <a:prstGeom prst="rect">
              <a:avLst/>
            </a:prstGeom>
            <a:solidFill>
              <a:srgbClr val="d59d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Rockwell"/>
              </a:endParaRPr>
            </a:p>
          </p:txBody>
        </p:sp>
        <p:sp>
          <p:nvSpPr>
            <p:cNvPr id="76" name="Rectangle 2"/>
            <p:cNvSpPr/>
            <p:nvPr/>
          </p:nvSpPr>
          <p:spPr>
            <a:xfrm>
              <a:off x="1446120" y="1630440"/>
              <a:ext cx="6251400" cy="3597120"/>
            </a:xfrm>
            <a:prstGeom prst="rect">
              <a:avLst/>
            </a:prstGeom>
            <a:solidFill>
              <a:srgbClr val="d59d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ffffff"/>
                  </a:solidFill>
                  <a:latin typeface="Rockwell"/>
                </a:rPr>
                <a:t>  </a:t>
              </a:r>
              <a:r>
                <a:rPr b="0" i="1" lang="en-US" sz="19400" spc="-1" strike="noStrike">
                  <a:solidFill>
                    <a:srgbClr val="ffffff"/>
                  </a:solidFill>
                  <a:latin typeface="Rockwell"/>
                </a:rPr>
                <a:t> </a:t>
              </a:r>
              <a:r>
                <a:rPr b="0" i="1" lang="en-US" sz="3600" spc="-1" strike="noStrike">
                  <a:solidFill>
                    <a:srgbClr val="ffffff"/>
                  </a:solidFill>
                  <a:latin typeface="Rockwell"/>
                </a:rPr>
                <a:t>                                       </a:t>
              </a:r>
              <a:endParaRPr b="0" lang="en-US" sz="3600" spc="-1" strike="noStrike">
                <a:solidFill>
                  <a:srgbClr val="ffffff"/>
                </a:solidFill>
                <a:latin typeface="Rockwel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pic>
        <p:nvPicPr>
          <p:cNvPr id="77" name="Picture 3" descr="http://www.spin.com.mx/ilustrado/murales/gifs/da3.gif"/>
          <p:cNvPicPr/>
          <p:nvPr/>
        </p:nvPicPr>
        <p:blipFill>
          <a:blip r:embed="rId1"/>
          <a:stretch/>
        </p:blipFill>
        <p:spPr>
          <a:xfrm>
            <a:off x="609480" y="457200"/>
            <a:ext cx="8001000" cy="54100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304920" y="60199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  “ 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Revolution Against Porfirio Diaz”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838080" y="5335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Rockwell"/>
              </a:rPr>
              <a:t>David Siqueiro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457200" y="380880"/>
            <a:ext cx="83818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Rockwell"/>
              </a:rPr>
              <a:t>Murals, a form of painting on a wall or rock surface, have a long and special history in Mexico.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5" name="Picture 3" descr="http://www.library.arizona.edu/images/cadena/perfect.jpg"/>
          <p:cNvPicPr/>
          <p:nvPr/>
        </p:nvPicPr>
        <p:blipFill>
          <a:blip r:embed="rId1"/>
          <a:stretch/>
        </p:blipFill>
        <p:spPr>
          <a:xfrm>
            <a:off x="304920" y="3962520"/>
            <a:ext cx="84582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La Trinchera, mural by Jose Clemente Orozco on the Eschula Nacional Preparatorio, Mexico City."/>
          <p:cNvPicPr/>
          <p:nvPr/>
        </p:nvPicPr>
        <p:blipFill>
          <a:blip r:embed="rId1"/>
          <a:stretch/>
        </p:blipFill>
        <p:spPr>
          <a:xfrm>
            <a:off x="4038480" y="304920"/>
            <a:ext cx="418644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4"/>
          <p:cNvSpPr/>
          <p:nvPr/>
        </p:nvSpPr>
        <p:spPr>
          <a:xfrm>
            <a:off x="228600" y="1447920"/>
            <a:ext cx="35812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The Trench”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Muralist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Jose Clemente Orozco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838080" y="20574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Murals of Modern Mexico and Mexican Culture in America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http://www.getty.edu/artsednet/images/P/ofrenda-xl.jpeg"/>
          <p:cNvPicPr/>
          <p:nvPr/>
        </p:nvPicPr>
        <p:blipFill>
          <a:blip r:embed="rId1"/>
          <a:stretch/>
        </p:blipFill>
        <p:spPr>
          <a:xfrm>
            <a:off x="171360" y="434880"/>
            <a:ext cx="880128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6"/>
          <p:cNvSpPr/>
          <p:nvPr/>
        </p:nvSpPr>
        <p:spPr>
          <a:xfrm>
            <a:off x="685800" y="914400"/>
            <a:ext cx="7620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Rockwell"/>
                <a:hlinkClick r:id="rId1"/>
              </a:rPr>
              <a:t>Modern Mexican American Murals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85" name="Picture 7" descr="Stone and Waterjet - Murals, Ecclesiastical Icons, Animal Motifs, Representational Art - Mexican Restaurant Wall Mural"/>
          <p:cNvPicPr/>
          <p:nvPr/>
        </p:nvPicPr>
        <p:blipFill>
          <a:blip r:embed="rId2"/>
          <a:stretch/>
        </p:blipFill>
        <p:spPr>
          <a:xfrm>
            <a:off x="533520" y="2971800"/>
            <a:ext cx="7696080" cy="2743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1676520" y="1676520"/>
            <a:ext cx="5486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cc"/>
                </a:solidFill>
                <a:uFillTx/>
                <a:latin typeface="Rockwell"/>
                <a:hlinkClick r:id="rId3"/>
              </a:rPr>
              <a:t>Check This Out!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http://www.library.arizona.edu/images/cadena/pizzahut.jpg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http://zalce.com/zalce/muralprocu.jpg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380880" y="762120"/>
            <a:ext cx="84582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Your assignment: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Create a mural of your own life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Include significant events, images and pictures that will make it symbolic of your own personal culture and history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225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Make it colorful and meaningful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04920" y="457200"/>
            <a:ext cx="85341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Some murals date back to 1000 B.C. 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Rockwell"/>
              </a:rPr>
              <a:t>Elaborate murals adorned the temples and sacred places in the cities.  They told the stories of the gods and goddesses and showed important ceremonies and scenes from everyday life.</a:t>
            </a: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7" name="Picture 3" descr="E:\PFiles\MSOffice\Clipart\standard\stddir4\PH02969J.jpg"/>
          <p:cNvPicPr/>
          <p:nvPr/>
        </p:nvPicPr>
        <p:blipFill>
          <a:blip r:embed="rId1"/>
          <a:stretch/>
        </p:blipFill>
        <p:spPr>
          <a:xfrm>
            <a:off x="2743200" y="4267080"/>
            <a:ext cx="3429000" cy="227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E:\PFiles\MSOffice\Clipart\standard\stddir1\AN01950_.wmf"/>
          <p:cNvPicPr/>
          <p:nvPr/>
        </p:nvPicPr>
        <p:blipFill>
          <a:blip r:embed="rId2"/>
          <a:stretch/>
        </p:blipFill>
        <p:spPr>
          <a:xfrm>
            <a:off x="533520" y="5029200"/>
            <a:ext cx="150156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E:\PFiles\MSOffice\Clipart\standard\stddir4\TR00573_.wmf"/>
          <p:cNvPicPr/>
          <p:nvPr/>
        </p:nvPicPr>
        <p:blipFill>
          <a:blip r:embed="rId3"/>
          <a:stretch/>
        </p:blipFill>
        <p:spPr>
          <a:xfrm>
            <a:off x="6705720" y="4495680"/>
            <a:ext cx="152388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Detail"/>
          <p:cNvPicPr/>
          <p:nvPr/>
        </p:nvPicPr>
        <p:blipFill>
          <a:blip r:embed="rId1"/>
          <a:stretch/>
        </p:blipFill>
        <p:spPr>
          <a:xfrm>
            <a:off x="304920" y="76212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ttp://www.raphaelk.co.uk/web%20pics/Mexico/Chichen%20Itza%20skulls.JPG"/>
          <p:cNvPicPr/>
          <p:nvPr/>
        </p:nvPicPr>
        <p:blipFill>
          <a:blip r:embed="rId1"/>
          <a:stretch/>
        </p:blipFill>
        <p:spPr>
          <a:xfrm>
            <a:off x="1606680" y="1000080"/>
            <a:ext cx="59324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iml.umkc.edu/art/faculty/wahlman/quizzes/Mayan/3TikalLintel/MayaTikalWoodenLintelB.jpg"/>
          <p:cNvPicPr/>
          <p:nvPr/>
        </p:nvPicPr>
        <p:blipFill>
          <a:blip r:embed="rId1"/>
          <a:stretch/>
        </p:blipFill>
        <p:spPr>
          <a:xfrm>
            <a:off x="1428840" y="1143000"/>
            <a:ext cx="628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2716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4" name="Picture 4" descr="Sarcophagus Lid of Palenque plaque"/>
          <p:cNvPicPr/>
          <p:nvPr/>
        </p:nvPicPr>
        <p:blipFill>
          <a:blip r:embed="rId1"/>
          <a:stretch/>
        </p:blipFill>
        <p:spPr>
          <a:xfrm>
            <a:off x="2209680" y="380880"/>
            <a:ext cx="4496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22392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56" name="Picture 4" descr="Aztec Indian Maya Vision Serpent Plaque - unpainted"/>
          <p:cNvPicPr/>
          <p:nvPr/>
        </p:nvPicPr>
        <p:blipFill>
          <a:blip r:embed="rId1"/>
          <a:stretch/>
        </p:blipFill>
        <p:spPr>
          <a:xfrm>
            <a:off x="2414520" y="304920"/>
            <a:ext cx="4519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http://iml.umkc.edu/art/faculty/wahlman/quizzes/MayaStela.b.jpg"/>
          <p:cNvPicPr/>
          <p:nvPr/>
        </p:nvPicPr>
        <p:blipFill>
          <a:blip r:embed="rId1"/>
          <a:stretch/>
        </p:blipFill>
        <p:spPr>
          <a:xfrm>
            <a:off x="2362320" y="304920"/>
            <a:ext cx="41907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8T16:18:35Z</dcterms:created>
  <dc:creator>BISD</dc:creator>
  <dc:description/>
  <dc:language>en-US</dc:language>
  <cp:lastModifiedBy>Beth Marat</cp:lastModifiedBy>
  <dcterms:modified xsi:type="dcterms:W3CDTF">2015-11-05T16:05:13Z</dcterms:modified>
  <cp:revision>15</cp:revision>
  <dc:subject/>
  <dc:title>PowerPoint Presentation</dc:title>
</cp:coreProperties>
</file>